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99132"/>
        <c:axId val="68925172"/>
      </c:barChart>
      <c:catAx>
        <c:axId val="37099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25172"/>
        <c:crosses val="autoZero"/>
        <c:auto val="1"/>
        <c:lblAlgn val="ctr"/>
        <c:lblOffset val="100"/>
        <c:noMultiLvlLbl val="0"/>
      </c:catAx>
      <c:valAx>
        <c:axId val="68925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99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E344-34CE-42B7-A670-A9E61E52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217-96F5-4F8F-9FE0-773FE5DA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1B3D-C3F5-4562-B357-DC4F4502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C71-CCAE-48D4-8397-8E40637F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819-CA93-44C6-975D-A8E648DC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19F-CAE8-4A6D-91A7-1A73AE8B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B15-1E47-41A5-9F04-032A7AAE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988-4DF2-4649-8B34-A5306D12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171-4E3C-4C8E-B7F1-3BE4B563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BF1-5972-4983-9110-B2DAD8E2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CBE-89B5-4EB6-94A4-95915DDC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052-F096-462C-A451-7A4F6137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49C4C-4223-4840-AC40-80B6865F31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