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243249"/>
        <c:axId val="83972544"/>
      </c:barChart>
      <c:catAx>
        <c:axId val="672432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972544"/>
        <c:crosses val="autoZero"/>
        <c:auto val="1"/>
        <c:lblAlgn val="ctr"/>
        <c:lblOffset val="100"/>
        <c:noMultiLvlLbl val="0"/>
      </c:catAx>
      <c:valAx>
        <c:axId val="839725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2432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7CB5-BE99-4A7A-8408-2EFB2643D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2BA4-6DDC-4952-A2EB-E715E0E5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3BFD-0ABB-4CBE-9BD7-562F7C017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2973-4A9C-408B-971B-BB7377953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C81F-A382-4E3B-8E78-51645800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D25C-B68C-4800-8937-F6FCED9A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EA09-EF5F-4C47-9836-6435AB3D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A479-D865-4F27-A0FC-17B72EF9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605E-DA65-4D14-9D4D-C858A015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3761-7C44-4E47-9010-CFED58DF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1AF6-4162-4AB6-9CE4-6406C909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2BB3-3CB3-4797-8CFB-3E51E04B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A1ECD9-E472-491C-B19A-96D4B25451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