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09266"/>
        <c:axId val="15625736"/>
      </c:barChart>
      <c:catAx>
        <c:axId val="70209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25736"/>
        <c:crosses val="autoZero"/>
        <c:auto val="1"/>
        <c:lblAlgn val="ctr"/>
        <c:lblOffset val="100"/>
        <c:noMultiLvlLbl val="0"/>
      </c:catAx>
      <c:valAx>
        <c:axId val="15625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09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B46-5320-4877-A30B-1A59469D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B9E-C928-4143-9F0E-F1CB0187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A0E-980B-4DD2-AA5C-A9792337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AD7-887D-427D-BEAA-BC870152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DB8-60B4-4465-B90F-61DEF917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C45-556A-4047-9059-E7F0F073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99E-FEAE-4D96-A91B-5252AB5D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0AD-896C-46BD-AB41-353890F6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C07-E97C-4732-A5EE-53E13B7B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C4C-7F96-4F84-A098-DA27716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ADE-8A79-4B71-B4CD-DA71673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73E-4C69-42F7-8DD8-1C8A0A8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FC6FF-8803-4EA4-9EB3-29E4BE5679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