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65435"/>
        <c:axId val="62417161"/>
      </c:barChart>
      <c:catAx>
        <c:axId val="43165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7161"/>
        <c:crosses val="autoZero"/>
        <c:auto val="1"/>
        <c:lblAlgn val="ctr"/>
        <c:lblOffset val="100"/>
        <c:noMultiLvlLbl val="0"/>
      </c:catAx>
      <c:valAx>
        <c:axId val="62417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5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1CA-A217-4E6F-945E-33C54476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933-E2AA-48D9-903A-4A307A60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F45-E3E0-4330-946B-9C2B7FEA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3DE-D21A-4F47-9BF7-79E9C0C9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12A-ECD1-4FA4-8F0B-D02D32DA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433-E19D-49FA-9539-2B9937E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3D9-907F-41B7-8D92-16974B3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2D9-0CBB-41E5-86F4-5FCD34CE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546-26A6-44ED-A5A2-8AE89253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DEB-36BB-4D01-8F37-CD5CAD3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16E-004A-40E7-9022-6AD80228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ACE-34C1-4829-B12F-B6D48C6E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05E1C-1F41-4643-BDE5-FBE665B69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