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99868"/>
        <c:axId val="96319543"/>
      </c:barChart>
      <c:catAx>
        <c:axId val="17899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9543"/>
        <c:crosses val="autoZero"/>
        <c:auto val="1"/>
        <c:lblAlgn val="ctr"/>
        <c:lblOffset val="100"/>
        <c:noMultiLvlLbl val="0"/>
      </c:catAx>
      <c:valAx>
        <c:axId val="96319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99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D91-124B-446E-94ED-FB568AA8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F9C-A4F9-41F7-B0DD-0DBCEB66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C98-D4BC-450D-BCB5-0E058C4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9AD-8F6D-4EA7-A33D-CB5EB39B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DEF-519E-4143-AA63-D2D47AF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8B4-FC57-44AF-87C2-70700EA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D44-064F-4F5B-A018-0F1A94E6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A7F-3FD9-4DA9-9719-56F998F2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49F-2BD4-41E1-B86F-1880A85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FCF-91B5-4BB3-88EA-B1B04B7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159-B4C4-4CB6-9141-17103DC8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C76-F051-4065-99CE-0363AA6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A00B-FDAB-4BE7-91EF-56596CBBEA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