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24720"/>
        <c:axId val="11765689"/>
      </c:barChart>
      <c:catAx>
        <c:axId val="98124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65689"/>
        <c:crosses val="autoZero"/>
        <c:auto val="1"/>
        <c:lblAlgn val="ctr"/>
        <c:lblOffset val="100"/>
        <c:noMultiLvlLbl val="0"/>
      </c:catAx>
      <c:valAx>
        <c:axId val="11765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24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1F1-F9EA-49EE-A503-73B06D2B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E4A-F53E-44C0-BBB9-02A0B407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64D-53E5-4DB8-B7BF-C1895C11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90C-E6E3-4D49-B062-38767EEA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5B4-8DE1-4C7C-AE46-8A7666AC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FCB-8B65-4594-A3C0-905D4AFF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E23-A27D-4C50-BD54-8693F235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BCF-E0B0-444A-97BA-D992E658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C14-763D-4B5F-BE88-82490DFC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3E7-6231-447A-88E0-7606CBFE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707-776F-4397-BD43-D46067BD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C51-328C-446C-AA1A-FAE167B8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A4D06-5C4D-417E-89BB-CC6021526D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