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59785"/>
        <c:axId val="21685401"/>
      </c:barChart>
      <c:catAx>
        <c:axId val="17759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85401"/>
        <c:crosses val="autoZero"/>
        <c:auto val="1"/>
        <c:lblAlgn val="ctr"/>
        <c:lblOffset val="100"/>
        <c:noMultiLvlLbl val="0"/>
      </c:catAx>
      <c:valAx>
        <c:axId val="21685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59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1D7-95AF-490B-9600-407AB522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528-4A99-4C73-A4EA-471ACE73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519-E924-4426-9581-8AB03A20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1A6-0DBD-48B9-A5A4-22FCEFE9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D9B-02ED-448D-BEA3-9B066950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07B-6AF7-4B08-8750-C9871EEB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0E2-B43F-499A-8F7B-3ED4664A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12B-B7EE-4CF2-A370-F11E9776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BA7-8BC5-4134-89C6-60828F55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1D7-B98A-4104-BD47-5B3727D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D1C-3FCF-4ED0-84E6-86F3389D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7DD-3FEF-40B6-BA3D-B11E363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4CDF0-85A0-4966-9478-D684107CB5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