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24217"/>
        <c:axId val="23285714"/>
      </c:barChart>
      <c:catAx>
        <c:axId val="24324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85714"/>
        <c:crosses val="autoZero"/>
        <c:auto val="1"/>
        <c:lblAlgn val="ctr"/>
        <c:lblOffset val="100"/>
        <c:noMultiLvlLbl val="0"/>
      </c:catAx>
      <c:valAx>
        <c:axId val="23285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24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5F7-9941-4A38-A39A-C1A1669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C9C-EC0E-4E7D-AB45-ABC38AA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C9E-BA0C-458B-9CDF-4CCEA09B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9AE-3D29-4D3F-93CE-D3C61B17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BBE-948A-4AB0-B36F-50430D0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83A-25C9-453B-B77B-5AE3C7AC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648-1FA4-4FE4-A1D5-9A89A32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361-78E0-480F-AC86-26E26D2E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097-CDC1-4A1F-B388-34BD877B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40F-A281-4EB7-B472-7F15143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CA5-CB49-4EA0-A40A-7E89B74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507-EAA9-45E5-B662-D1A8398D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0EA0D-44DB-47F6-AF2A-A6C2E1EAE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