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7413"/>
        <c:axId val="22603283"/>
      </c:barChart>
      <c:catAx>
        <c:axId val="8357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03283"/>
        <c:crosses val="autoZero"/>
        <c:auto val="1"/>
        <c:lblAlgn val="ctr"/>
        <c:lblOffset val="100"/>
        <c:noMultiLvlLbl val="0"/>
      </c:catAx>
      <c:valAx>
        <c:axId val="22603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7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B73-4A1C-4EB9-B9AB-9E24FCFC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124-5424-470D-8794-6F101DEA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D51-A72E-478F-85B2-4BF1D1A8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71E-DE94-47F3-983F-436C9624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E162-8630-4FE6-B8FF-9DA5C6B8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5D2-1AC4-4592-8653-ED167069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C34-949B-450C-8C3F-0B55DA6E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6BF-DB72-420C-B989-0E1F6520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D8A-0B7C-42D7-AC8B-20979CF1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521-BE50-407E-92E1-7CF4CDF6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68B-8BCF-4261-AEEB-C56AB23C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83E-3606-4EC2-8E58-FDB1128A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2C7CF-2DDB-4B9F-AB65-E117C20061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