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610616"/>
        <c:axId val="85020642"/>
      </c:barChart>
      <c:catAx>
        <c:axId val="366106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20642"/>
        <c:crosses val="autoZero"/>
        <c:auto val="1"/>
        <c:lblAlgn val="ctr"/>
        <c:lblOffset val="100"/>
        <c:noMultiLvlLbl val="0"/>
      </c:catAx>
      <c:valAx>
        <c:axId val="850206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106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C19E-B1FF-456C-ADD0-F74FF185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27C9-51FC-4F92-9803-C99FC316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9DA3-5B0C-4601-B6A4-41C6C724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0972-3DE2-4CA1-8D2B-A5C6133F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EBE1-94D1-48B7-BB16-4DE7DD2C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965B-2A25-424A-ADD5-E6D68A3B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44BE-9AAD-4667-BC54-0C734B27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2FAA-5D23-4A29-BDE6-8EB03E3B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DDE4-9FA0-4E6D-816E-28BC246B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8763-18DA-4DFB-8C26-7C24626C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2D98-B6F3-4570-AE43-5CB3C7E5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A985-84E9-4005-B25D-C053F843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CE6E0-4D38-4E7A-AB1F-62197204F5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