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547929"/>
        <c:axId val="11053311"/>
      </c:barChart>
      <c:catAx>
        <c:axId val="40547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53311"/>
        <c:crosses val="autoZero"/>
        <c:auto val="1"/>
        <c:lblAlgn val="ctr"/>
        <c:lblOffset val="100"/>
        <c:noMultiLvlLbl val="0"/>
      </c:catAx>
      <c:valAx>
        <c:axId val="11053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47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7F2-7028-46F9-83B2-49DDB18C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6A4-2EC1-438B-BFAB-E64971A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263-3146-411B-8F52-2FFFB335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BD6-3A92-4724-8764-B566C860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9C3-E493-4316-AB61-2E1B8C8B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DD6-7BA3-495C-954C-094C24F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B25-9E70-4EF3-8E87-4BB1EFF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30A6-9D8C-48CA-95A3-B026240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F55-3B7E-44E8-9AAF-80E86B7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D14-F407-4A1D-9B83-1F9FA19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3DC-1BF3-49F8-B77F-E8100FD5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9C9-75FB-4C9B-B1E3-91976716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9BF46-AFF6-4060-9DF5-8573186DD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