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939249"/>
        <c:axId val="47066780"/>
      </c:barChart>
      <c:catAx>
        <c:axId val="769392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066780"/>
        <c:crosses val="autoZero"/>
        <c:auto val="1"/>
        <c:lblAlgn val="ctr"/>
        <c:lblOffset val="100"/>
        <c:noMultiLvlLbl val="0"/>
      </c:catAx>
      <c:valAx>
        <c:axId val="470667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392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D50A-22F3-4617-803A-8B19F8521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75DD-E8A2-44A7-A425-44E38F44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5C74-2CA8-4A32-AA42-F2A726E67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AEF6-256F-4AA4-B92F-7DDF4151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FA22-B121-4E33-92DB-BEDC8B83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DD00-6A40-4B51-99B2-8ADB9CBDD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DA1E-7352-45E9-A1F8-271B8D91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7141-2687-416F-BF2F-690FA4DF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64EF-9D81-46E5-8DEC-CDE5319A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823C-745E-4914-B066-F2054E4D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49C1-D47E-4ACE-AEF7-357D4F3D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6110-3248-471C-BF28-C2D9EF97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5941F-98B5-4C38-8221-0C616B5AD7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