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39773"/>
        <c:axId val="48567382"/>
      </c:barChart>
      <c:catAx>
        <c:axId val="91339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67382"/>
        <c:crosses val="autoZero"/>
        <c:auto val="1"/>
        <c:lblAlgn val="ctr"/>
        <c:lblOffset val="100"/>
        <c:noMultiLvlLbl val="0"/>
      </c:catAx>
      <c:valAx>
        <c:axId val="48567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39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22D5-62EC-4869-A1E2-A5C8EC8B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CA8F-6820-4D14-911A-F3BA11B2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DD8-08F8-497E-86EA-735CCD14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3FA-85E1-456A-957F-8EFA16E3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505-0E08-4297-85A0-2E75B7CB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4DC-D838-45CD-B777-BFB7E15F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6FF-0D54-4E27-9120-DC67ED8C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22E-0044-4723-9060-2C388BC3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F97-8F6D-4FA6-BC9C-E1CD52F9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B08-296B-4BCB-9D64-E191A811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2D1-A139-4DA8-B68A-B70CC40D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FE9-1B07-426D-8CCC-768D221E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9BBF4-6922-4AC5-9EB8-8A6B307CCB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