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703584"/>
        <c:axId val="33775585"/>
      </c:barChart>
      <c:catAx>
        <c:axId val="727035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775585"/>
        <c:crosses val="autoZero"/>
        <c:auto val="1"/>
        <c:lblAlgn val="ctr"/>
        <c:lblOffset val="100"/>
        <c:noMultiLvlLbl val="0"/>
      </c:catAx>
      <c:valAx>
        <c:axId val="337755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7035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0DF6-90DD-4DD3-86C2-6DBFA6641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F8D2-E34D-4876-81C9-1A495A84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4B65-F0FD-4037-A4F9-B43EBF339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645C-C81E-49B5-B63E-8176C5403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DD5F-8BFD-42B3-8A58-40A5DC52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DD5C-C52A-471A-87EC-298606D7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1771-D804-4BFB-9C72-08924F92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60BD-C8A0-4308-BEC7-5FC87E26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5FBE-864E-47CF-83FB-A5AE1120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588B-7BEF-4C0B-9EF9-221F221E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071F-0172-4C68-8028-FDAE84AC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21EB-3A84-4B99-A85B-32C8807D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392C1-8CB4-4D49-AE89-CB23C7CAC9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