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89190"/>
        <c:axId val="13041126"/>
      </c:barChart>
      <c:catAx>
        <c:axId val="81689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1126"/>
        <c:crosses val="autoZero"/>
        <c:auto val="1"/>
        <c:lblAlgn val="ctr"/>
        <c:lblOffset val="100"/>
        <c:noMultiLvlLbl val="0"/>
      </c:catAx>
      <c:valAx>
        <c:axId val="13041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9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472-D47A-4605-98B6-AC62EFD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6B7-AE2E-4D27-BC73-7892316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13B-2BB8-4443-9116-E7FAE4F5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945-1964-4D52-9B2A-B2155913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C2B-8D3F-4625-999D-F087E4C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36D-2663-4138-8DEC-9C87E76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8C8-AE85-49B6-8F7C-AA13DD75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9B3-09BC-4ED7-89BD-A2757142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AF0-0445-4AF8-8981-AC895D5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2DA-EB20-4337-90E0-F11D0BE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825-0777-4E00-AFA7-1B26B51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833-DD5E-41F0-A098-9F0C8AE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4FA2D-9439-4D41-BF16-AAEFFE77B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