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74744"/>
        <c:axId val="9430825"/>
      </c:barChart>
      <c:catAx>
        <c:axId val="423747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0825"/>
        <c:crosses val="autoZero"/>
        <c:auto val="1"/>
        <c:lblAlgn val="ctr"/>
        <c:lblOffset val="100"/>
        <c:noMultiLvlLbl val="0"/>
      </c:catAx>
      <c:valAx>
        <c:axId val="94308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747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1C56-D12D-4256-838F-3D273066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3D5B-3E77-4E0C-AA46-25A6934A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305-51E3-4205-BDB5-E4BE24BE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835-22A2-49D0-85E8-480E7FAE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15FF-EBE6-4DBA-AC42-689B8B1F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CC4-E78A-45C6-83F0-5970DAC2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FB3B-9962-4794-A917-6AA3A593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2D76-60E7-4FD1-AA20-698D75ED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B009-B172-4EF3-8E0E-59B2B07D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ABA-262C-43E6-B8AA-800D80AA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5D5-FFF4-4076-A578-55182549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016F-E00E-4D4D-96DA-3AF3332C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F86F7-22DC-4090-90E3-6D0B187832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