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63687"/>
        <c:axId val="27144869"/>
      </c:barChart>
      <c:catAx>
        <c:axId val="97163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44869"/>
        <c:crosses val="autoZero"/>
        <c:auto val="1"/>
        <c:lblAlgn val="ctr"/>
        <c:lblOffset val="100"/>
        <c:noMultiLvlLbl val="0"/>
      </c:catAx>
      <c:valAx>
        <c:axId val="27144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3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61E-F6A8-4725-B5A4-E9ECE924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167-13BC-4044-9F30-D5A9AD5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7BA-8EF1-4542-ADCB-A222A8A3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F00-321A-48D8-AD90-BAFE22EF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53E-A9AA-4E17-BA3A-8FADDE5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5D9-98D3-4E1D-B471-D34A267E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9B4-17E4-47A6-9E7B-33FFC5A6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614-18A9-4CD1-A2A0-E419E641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AA0-11EF-4660-A9C7-2F14F57C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232-FFE4-4E2F-B4F4-DE28D27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8B4-7559-4BB0-8753-32BD27D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459-6838-443B-AD6E-A76A84E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427D8-9651-4E0A-A520-7854099A0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