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6146"/>
        <c:axId val="47947407"/>
      </c:barChart>
      <c:catAx>
        <c:axId val="9136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7407"/>
        <c:crosses val="autoZero"/>
        <c:auto val="1"/>
        <c:lblAlgn val="ctr"/>
        <c:lblOffset val="100"/>
        <c:noMultiLvlLbl val="0"/>
      </c:catAx>
      <c:valAx>
        <c:axId val="47947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6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DA5-A2A0-4CA1-82F7-5FBA5C8C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0E9D-6CA0-4FB4-954E-2625182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8451-8DD4-4501-AC85-DCFD908E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6A27-5146-4EC0-B136-45FA7783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6E5-FD0A-49CC-8ED4-850987DB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F84-5E33-446B-BB79-1795887F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D4B-35BD-48A1-A146-8293A7E9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0FB-FD8A-410F-B66A-2837CDFF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E7C-0AC1-42A5-B63D-392F72BB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597-D52B-4FCC-A824-067D305F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608F-5592-4082-9D62-9929E2DE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20B6-4400-4BCA-B330-865B0F8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96EAD-1A46-4AFF-884B-D416F82A53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